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9C3-C526-4D48-AD48-0D76F492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FEEB-CAE6-4156-AF9F-B08F3594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206B-BE81-4644-B578-890070F6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73BA-FAF8-42BA-866C-173B76FE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F9B-DE6B-48C6-9F96-5C503FAE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5E6-0DC7-473B-8253-B5A20FC0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36F8-453D-400A-B9A1-00C4574C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274-005B-4CCA-8A7E-51C23B81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3DFD-5A3A-47C3-AA90-795D1A55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DB2-1DE3-471F-8508-0D10BE09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5591-42C3-4817-9A15-A39B6662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DC39-C13F-49E8-AEE1-D7D6664D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C918-495D-43EA-A404-4C4215C5E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7/William_Notman_studios_-_Sitting_Bull_and_Buffalo_Bill_%281895%29_edit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upload.wikimedia.org/wikipedia/commons/2/2e/Annie-oakley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upload.wikimedia.org/wikipedia/commons/d/d6/Pawnee_bill_wild_west_show_c1905.jpg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Wild_Bill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File:Billykid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en.wikipedia.org/wiki/File:Jesse_james_portrait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organEarp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en.wikipedia.org/wiki/File:VirgilEarp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en.wikipedia.org/wiki/File:WyattEarp2.jpg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ld W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recognizable and popular period in US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ve Americans that “cowboy” image throughout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alo Bill’s Wild West and Congress of Roughriders of the World brought the stories and lifestyles to audiences all over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me novels and the film industry would play the most important role in keeping the legends and myths al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ffalo Bill’s Wild W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File:William Notman studios - Sitting Bull and Buffalo Bill (1895) edi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2884320" cy="4131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File:Annie-oakle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91200" y="1125360"/>
            <a:ext cx="2152800" cy="3024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File:Pawnee bill wild west show c190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71640" y="3430440"/>
            <a:ext cx="4302360" cy="3427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020000" y="3789360"/>
            <a:ext cx="2124000" cy="3068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843280" y="1052640"/>
            <a:ext cx="41148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ny Exp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113440" cy="3395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5084640"/>
            <a:ext cx="388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de in relay fash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3 men employed ( $100/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graph replaced in 18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4120" y="1628640"/>
            <a:ext cx="380988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040" y="260280"/>
            <a:ext cx="2576520" cy="3863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 Bill Hic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221000"/>
            <a:ext cx="367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bler , lawman , gunfi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t dead during a poker game in 1876 (Deadwood , South Dako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260280"/>
            <a:ext cx="2513160" cy="3816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211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ly The K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5280" y="4149720"/>
            <a:ext cx="3673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bler, cattle rustler, gunfi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t dead in 1881 by Pat Garre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59640" y="260280"/>
            <a:ext cx="2313000" cy="3816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93080" y="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sse J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59640" y="4149720"/>
            <a:ext cx="24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ber , gang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t dead in 1882 by Bob 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arps and the OK Corral – Tombstone , Arizona 18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484280"/>
            <a:ext cx="1619280" cy="2228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35280" y="1341360"/>
            <a:ext cx="1571400" cy="2486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789360"/>
            <a:ext cx="1855800" cy="244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File:HollidayLcollar.jpg"/>
          <p:cNvPicPr/>
          <p:nvPr/>
        </p:nvPicPr>
        <p:blipFill>
          <a:blip r:embed="rId7"/>
          <a:stretch/>
        </p:blipFill>
        <p:spPr>
          <a:xfrm>
            <a:off x="1835280" y="3789360"/>
            <a:ext cx="1657080" cy="244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File:Mclauriesclanton.jpg"/>
          <p:cNvPicPr/>
          <p:nvPr/>
        </p:nvPicPr>
        <p:blipFill>
          <a:blip r:embed="rId8"/>
          <a:stretch/>
        </p:blipFill>
        <p:spPr>
          <a:xfrm>
            <a:off x="5724360" y="4726080"/>
            <a:ext cx="3419640" cy="2131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659640" y="1052640"/>
            <a:ext cx="21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McLaury, Frank McLaury and Billy Clanton – deceased. (Ike Clanton and Billy Claiborne li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5032440" y="2781360"/>
            <a:ext cx="1350720" cy="1944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6372360" y="2781360"/>
            <a:ext cx="1373040" cy="1942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7740720" y="2781360"/>
            <a:ext cx="1403280" cy="1942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23736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gan , Virgil , Wyatt , Doc Holl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23:46:06Z</dcterms:created>
  <dc:creator>User</dc:creator>
  <dc:description/>
  <dc:language>en-US</dc:language>
  <cp:lastModifiedBy>User</cp:lastModifiedBy>
  <dcterms:modified xsi:type="dcterms:W3CDTF">2010-12-17T00:52:12Z</dcterms:modified>
  <cp:revision>2</cp:revision>
  <dc:subject/>
  <dc:title>The Old West</dc:title>
</cp:coreProperties>
</file>